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9E99-FD9D-4A0C-8246-58672864E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AA3F-95C7-4A8D-9572-8CEEBC43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1C90-58C7-4DF4-BCAD-942763547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14F9-70A7-4EB2-A9D1-C4B16591F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14A5-EB81-461D-BC44-1DC66DA5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00EB-D32D-4CEB-A5FE-B449B98F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64EB-5283-4A08-B347-33FC0F6F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B910-DB8A-474A-B372-71E7571B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5662-C139-4803-BCED-E70D45CD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08E8-6C05-4C36-88E2-9D1DDA81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11E7-30B8-4CF7-8748-2E72C0E7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B910-E6B5-422B-846F-D3417F3C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5F40-2F04-4C84-BFA2-808D71301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7T16:08:59Z</dcterms:created>
  <dc:creator>Grupo Editorial</dc:creator>
  <dc:description/>
  <dc:language>en-US</dc:language>
  <cp:lastModifiedBy>Grupo Editorial</cp:lastModifiedBy>
  <dcterms:modified xsi:type="dcterms:W3CDTF">2001-09-27T16:10:49Z</dcterms:modified>
  <cp:revision>1</cp:revision>
  <dc:subject/>
  <dc:title>Sin título de diapositiva</dc:title>
</cp:coreProperties>
</file>